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06230"/>
        <c:axId val="31465440"/>
      </c:barChart>
      <c:catAx>
        <c:axId val="41006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65440"/>
        <c:crosses val="autoZero"/>
        <c:auto val="1"/>
        <c:lblAlgn val="ctr"/>
        <c:lblOffset val="100"/>
        <c:noMultiLvlLbl val="0"/>
      </c:catAx>
      <c:valAx>
        <c:axId val="31465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06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58E-B328-451A-9AA3-ED8C8695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D99-5142-45F9-8DEA-8D0ABDA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09D-6A2A-4D12-8303-C9483154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AAD-DD69-4979-B284-1167673B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4C7-7E5C-4CE3-A837-044EE96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9C3-D62A-4E52-B15D-D890920D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9E7-03D3-4FB1-8F48-21BCBC5C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132-6572-422D-80BF-B5414F41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8BA-55F4-4292-82C4-9CA7FE5C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B62-7D6D-4163-8475-AFEA62E2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1E2-51FD-474B-89E1-51328F87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440-8854-4790-B7C4-011D342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C2E12-1F55-4618-8399-C2DE88B5F6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