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88437"/>
        <c:axId val="79624824"/>
      </c:barChart>
      <c:catAx>
        <c:axId val="29488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24824"/>
        <c:crosses val="autoZero"/>
        <c:auto val="1"/>
        <c:lblAlgn val="ctr"/>
        <c:lblOffset val="100"/>
        <c:noMultiLvlLbl val="0"/>
      </c:catAx>
      <c:valAx>
        <c:axId val="79624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88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CEE-1DE8-4A51-8096-4DDD3537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8E9-2E80-43AB-ABBC-6AC8087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927-4F34-4D38-9CE7-7C7C1E84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66-1036-4BCB-929C-1E6644EB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956-437A-4643-8538-CA5B29C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191-627F-4571-ADA8-EB0519A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854-F3E8-4B4C-A058-ACCCDD4C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BDF-C596-4142-808A-808D9F14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CB4-74C1-4338-9EFD-ED925B7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6DF-36F7-4FFA-BA1D-F873120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753-E5BD-4021-8712-1E4FF06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78A-3F37-4C77-8A8F-C18C43CB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9FC0F-A4EA-4EA4-A592-A6F82D26B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