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22017"/>
        <c:axId val="378747"/>
      </c:barChart>
      <c:catAx>
        <c:axId val="64522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747"/>
        <c:crosses val="autoZero"/>
        <c:auto val="1"/>
        <c:lblAlgn val="ctr"/>
        <c:lblOffset val="100"/>
        <c:noMultiLvlLbl val="0"/>
      </c:catAx>
      <c:valAx>
        <c:axId val="378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22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554-69A8-4E8D-AF13-B50BB528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CA8-FFDD-4548-9F76-A53A328E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7CD-7357-4474-B9EB-5E48012E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809-0609-4B46-927D-5E6F74D9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58F-2847-4724-AE6F-CD0E83A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4AB-D95B-4037-8781-328119E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6E4-B01F-4997-8B5E-466EC4B6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C74-FBAA-4B44-96A4-3AE1265A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2C3-CF2D-473C-A08B-35D5761C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B48-8AD1-4E3A-889C-72CF7D51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F19-155D-4419-BC3F-B6B6E40C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6DB-2193-4C9C-AF7E-41F327B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B5BA9-E503-4A71-AB1E-84EB34405B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